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8134-88DF-4183-AD2B-ADB5E91A6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C143-31F1-474D-A73C-28B0C0BA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D38D-7A5A-4E34-BC69-9FCBCB822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DB1F-A31D-4CDB-A6AF-5CD8FC8E9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A48A4-FEA4-401C-B351-F39FE69B1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AAD8-C2E1-4CD6-BEBB-DAB8815A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1E15-63A0-4C8E-B178-81F746C3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2189A-CA58-4212-8C16-41EC72A1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7936-0513-4B27-8B6D-3B6E2932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54839-11DF-4927-9FD1-A2726D9E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5B6AE-1244-4CC6-A634-6397478F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74A8-5476-431D-A394-516F5781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46D16-96E5-49C2-AC02-A11DA30B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351F-879E-4CA0-875A-9A2CED68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C132-9C62-4F67-861D-BA0369B1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ACE7-576D-4030-9119-C0A9775A6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F48E-03EC-4ECC-9D0B-896130B11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8359-3763-4BDD-8AE6-8CAB1847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45BA-85CF-492C-8C8E-747282EA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2401-2F51-4D9C-BF10-B7584228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651A-62CA-4EBE-8EFE-BE19C17B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F9EB-160E-4324-987F-D14525AD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F719-8053-4F83-AF5F-449C855E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3DE2-29FC-4CE4-A3A8-B705A4F6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4AB6-9F55-4E90-80F3-5EF505BB70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6925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8D12-14D1-4788-BC73-5B097165D7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o.wikipedia.org/wiki/Motor_cu_combustie_intern&#259;" TargetMode="External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066680"/>
            <a:ext cx="4876920" cy="3657600"/>
          </a:xfrm>
          <a:prstGeom prst="rect">
            <a:avLst/>
          </a:prstGeom>
          <a:gradFill rotWithShape="0">
            <a:gsLst>
              <a:gs pos="0">
                <a:srgbClr val="2b877c"/>
              </a:gs>
              <a:gs pos="100000">
                <a:srgbClr val="6fb56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Arial Black"/>
              </a:rPr>
              <a:t>Cum este influentat viitorul de descoperirile trecutului?</a:t>
            </a: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781680" y="1523880"/>
            <a:ext cx="13716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dffbb"/>
                </a:solidFill>
                <a:latin typeface="Arial Black"/>
              </a:rPr>
              <a:t>?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ddffbb"/>
              </a:solidFill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191120" y="5715000"/>
            <a:ext cx="3333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ddffbb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ddffbb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prof. M.Seusa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ddffbb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Intrebarea unitatii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Mai prezint</a:t>
            </a:r>
            <a:r>
              <a:rPr b="0" lang="ro-RO" sz="32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interes motoarele termice pentru noi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Intrebarile de continu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e sunt combustibilii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e este un motor termic si cum functioneaz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e sunt caracteristicile unui motor termic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m recunosti un motor “bun”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are este istoria motoarelor? Dar perspectiva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62120" y="2057400"/>
            <a:ext cx="7086600" cy="3581280"/>
          </a:xfrm>
          <a:prstGeom prst="rect">
            <a:avLst/>
          </a:prstGeom>
          <a:solidFill>
            <a:srgbClr val="5a9a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2514600"/>
            <a:ext cx="807696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 Extra Bold"/>
                <a:ea typeface="Times New Roman"/>
              </a:rPr>
              <a:t>Esti angajat la o firma de vanzari automobil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 Extra Bold"/>
                <a:ea typeface="Times New Roman"/>
              </a:rPr>
              <a:t>Sarcina ta este sa elaborezi o prezentare cu informatii generale despre motoare pentru a veni in sprijinul clientil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143000" y="685800"/>
            <a:ext cx="7010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ata provocarea!</a:t>
            </a:r>
            <a:endParaRPr b="1" lang="en-US" sz="4800" spc="1" strike="noStrike">
              <a:ln w="19080">
                <a:solidFill>
                  <a:srgbClr val="ff99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e ai de facut?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gradFill rotWithShape="0">
            <a:gsLst>
              <a:gs pos="0">
                <a:srgbClr val="133e39"/>
              </a:gs>
              <a:gs pos="100000">
                <a:srgbClr val="2b877c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alizeaza o prezentare Power Point in care sa fie sa apara informatii desp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ipurile de motoare si caracteristicile lor (combustibil utilizat,putere, consum, randament, acceleratie, turatie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bustibili (definire, clasificare, putere caloric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asificarea motoarelor term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incipiul de functionare al motoarelor term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uncte tari si puncte slabe ale fiecarui mo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storicul motoarelor / Perspectiva motoarel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comandari  posibile pentru clien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28240" y="11426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mariti sarcinile din fisa de activitate si completati-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biliti impreuna cu colegii vostri o schita a prezentarii si alegeti un titl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eti un inventar al lucrurilor pe care le aveti de facut, repartizati sarcinile si stabiliti termene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rmenul de finalizare a prezentarii ……ora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…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ai la dispozitie 5 ore in clasa si va recomand 3 ore de lucru / pe saptamana acas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59436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rmariti lista de verifica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30492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comandar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Black"/>
              </a:rPr>
              <a:t>Surse de informa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90512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33"/>
                </a:solidFill>
                <a:uFillTx/>
                <a:latin typeface="Arial"/>
                <a:hlinkClick r:id="rId1"/>
              </a:rPr>
              <a:t>http://ro.wikipedia.org/wiki/Motor_cu_combustie_intern%C4%8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ttp://findarticles.com/p/articles/mi_km4455/is_200510/ai_n162636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ttp://findarticles.com/p/articles/mi_m1590/is_14_63/ai_n1918742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ww.referat.ro/referate/Motoare_termice_7919.h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ttp://www.sfin.ro/articol_2645/petrolul__combustibil_pentru_solutiile_energetice_alternative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ttp://www.msnbc.msn.com/id/58420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2T18:41:04Z</dcterms:created>
  <dc:creator>ECC</dc:creator>
  <dc:description/>
  <dc:language>en-US</dc:language>
  <cp:lastModifiedBy>seusan</cp:lastModifiedBy>
  <dcterms:modified xsi:type="dcterms:W3CDTF">2007-08-19T19:15:51Z</dcterms:modified>
  <cp:revision>40</cp:revision>
  <dc:subject/>
  <dc:title>PowerPoint Presentation</dc:title>
</cp:coreProperties>
</file>